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D1BE-B1F3-4CC7-8C6C-B7FCE18E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038-4560-4C53-B40A-2C40B94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787E-9664-4B4E-95C8-25EECDEE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FF26-F98D-4A87-9F21-7E6B1A5E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0298-007F-4713-A94B-F6BC7676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6DEC-56AD-4686-A699-3EA047D7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800D-DACE-45B3-ADDE-3F7515BF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5852-0E22-49B6-866E-487393E4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8D7-56D3-4217-85C2-1F2629F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3F30-23D8-47A4-88EB-8BFCAE28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FFE9-A400-450F-A4C7-5D461035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B19-4916-49D2-B2A2-ADD25F7D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E651-7C70-4AA1-810A-3D804C4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EAD1-AE41-485C-ACBB-6B223C6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070A-4442-4C01-A10C-7FAC6641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18226-5460-4DBB-8840-F333090E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1C5-80E1-4A63-A4B7-C6205050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373-08CA-43CE-B421-A7BEA2A1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58DA-2936-41F0-A763-9D97D670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64F2-B924-4987-89B0-CF5BDF5C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9487-06FD-441E-91A9-B0599D85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CDC-1569-48C4-98FC-89E3EF18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53A-B9C1-42DF-A4C0-D8ED9AEB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CE4E-463D-4ACF-B9C3-0002DC9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06F8-BDFA-41AE-BB90-B2E95A1A09C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9CA0-BE39-4B42-9468-1CC1115E2DC4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3 &amp; 4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discuss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sort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-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- eva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- skelet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questions about b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for patter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611280" y="2781360"/>
            <a:ext cx="2504880" cy="2457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3274920" y="2781360"/>
            <a:ext cx="2594160" cy="260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6310440" y="2781360"/>
            <a:ext cx="2509560" cy="2457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457200" y="558972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Do people with …………………… have ……………………… 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Can people with …………………….   …………………………….. ?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your local area and identify good spots for your ongoing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 to get outside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log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ulers, tape measures, metre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tl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per tow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3 and 4 content fit between the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s – life cycle of plants year 3, classification yea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ife cycle of flowering plant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evidence is there for the life cycle of a flowering pl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 of living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ssifying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clues can we use to identify or classify tre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18T11:23:13Z</dcterms:modified>
  <cp:revision>67</cp:revision>
  <dc:subject/>
  <dc:title>Science coordinators’ meeting 22nd September 2011</dc:title>
</cp:coreProperties>
</file>